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пять режимов обмена, один из которых полностью соответствует традиционному стандартному программно-управляемому выводу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альные режимы используются для расшире­ния функциональных возможностей и повышения производительности интерфейса. Стандарт определяет способ согласования режима, по которому программное обеспечение может определить режим, доступный и хосту (в нашем случае э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иферийному устройству(П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ы нестандартных портов, реализующих протокол об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ппар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Fast Centronics, «Parallel Port FIFO Mode»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гут и не являться режим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1284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смотря на наличие в них черт ЕРР и Е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писании режимов обмена фигурируют следующие по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ст — компьютер, обладающий параллельным 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 — периферийное устройство, подключаемое к этому порту (им может оказаться и другой компьютер). обозначениях сигнал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t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означает передающее периферийное устр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анал — канал вывода данных от хоста в П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анал  канал в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 в хост из 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63BF-977E-455A-A0CE-AB53D6D24F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основного станда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, который уже принят, в настоящее время в стадии проработки находятся новые стандарты, не отменяющие его, а опре­деляющие дополнительные возможности. К ни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4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Standard for Information Technology for Transport Independent Printer/Scanner Interface (TIP/SI)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разрабатывается для управ­ления и обслуживания сканеров и принтеров на основе протоко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PAP (Net­work Printing Alliance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2 «Standard for Test, Measurement and Conformance to IEEE Std. 1284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для тестирования портов, кабелей и устройств на совмес­тимость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3 «Standard for Interface and Protocol Extensions to IEEE St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iant Peripheral and Host Adapter Ports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на драйверы и использование устройств прикладным программным обеспе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4 «Standard for Data Delivery and Logical Channels for IEEE St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faces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направлен на реализацию пакетного протокола достоверной передачи данных через параллельный порт. Исходной точкой яв­ляется проток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LC (Multiple Logical Channels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wlett-Packard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E1BE-D591-49FA-9305-192D5AA0F6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правление параллельным портом разделяется на два этапа — предварительное конфигурирова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Setup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ппаратных средств порта и текущее (оперативное)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ереключен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ежимов работы прикладным или системным ПО. Оперативное переключение возможно только в пределах режимов, разрешенных при конфи­гурировании. Таким образом обеспечивается возможность согласования аппа­ратуры и программного обеспечения и блокирования ложных переключении, вызванных некорректными действиями програм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особ и возможности конфигурирования LPT-портов зависят от его исполнения и местоположения. Порт, расположенный на плате расширения (обычно на мультикарте), устанавливаемой в сло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+VLB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бычно конфигурируется джамперами на самой плате. Порт, расположенный на системной плате, обычно конфигурируется через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 Se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фигурированию подлежат следующие параметр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зовый адрес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который может иметь значе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3BCh, 378h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78h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 инициализаци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оверяет наличие портов по адресам именно в этом порядке и, соответственно, присваивает обнаруженным портам логи­ческие име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1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LPT2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3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дрес 3BCh имеет адаптер порта, распо­ложенный на плат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MD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HGC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Большинство портов по умолчанию конфигурируется на адрес 378h и может переключаться на 278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уемая ли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проса прерыва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1 обычно используется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RQ7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2 —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RQ5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ование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режимов ЕСР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Fast Centronics —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зреше­ние и номер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F8B2-B1FA-4661-A642-82C47607CB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распространенным применением LPT-порта является, подключение принтера. Практически все принтеры могут работать с портом в режиме SPP, но применение расширенных режимов дает дополнительные пре­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унаправленный режи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дает дополнительные возможности для сообщения состояния и параметров принтера. Скоростные режимы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существенно повышают производительность практически любого принтера (особенно лазерного), но могут потребовать более качественного каб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ЕСР потенциально самый эффективный, и он имеет системную поддержку во всех варианта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распространенных семейств ЕСР поддерживают принт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дел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er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иная с 4-го, современные модели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ребуют применения кабеля по частотным свойствам соответствую­ще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ейший вариант кабеля подключения принтера — 18-проводный кабель с неперевитыми проводами с успехом может использоваться для работы порта в режи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еальным вариантом являются кабели, в которых все сигнальные линии перевиты с общими проводами и заключены в общий экран — то, что требу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48. Такие кабели гарантированно работают на скоростях до 2 Мбайт/с, и допускается их длина до 10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96A1-A893-4510-A166-9F04679DC3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7B27-EE3F-4D51-BEB2-B78DA9D4B2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1A33-02E0-4E89-AA52-C2FD6ECDFF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6C81-78B8-4224-8758-98FE4B0E99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0FC4-4D22-4B55-AAF8-4BED820223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F18D-CD1A-49D3-9BC9-28382C7D9C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параллельного интерфейса был введен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одключения принтера —LPT-пор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острочный принт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ер параллельного интерфейса представляет собой набор регистров, расположенных в пространстве ввода/вывода. Регистры порта адресуются относительно базового адреса порта, стандартными значениями которого являются 38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3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278h. Порт имеет внешнюю 8-битную шину данных, 5-битную шину сигналов состояния и 4-битную шину управляющих сиг­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держивает до четырех  LPT-порт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своим сервисом — преры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еспечивающим через них связь с принтерами по интерфейс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м серви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 вывод символа, инициализацию интерфейса и принтера, а также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6A3B-7CA2-4D3B-9AE4-DA783C50C0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60640"/>
            <a:ext cx="8496000" cy="5148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197000"/>
            <a:ext cx="849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71640" y="1268280"/>
          <a:ext cx="4608360" cy="5010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1173240"/>
                <a:gridCol w="1015920"/>
                <a:gridCol w="101592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-2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 шлей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/O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Bit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0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obe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k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 7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per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1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 LF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3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 In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 12, 14,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 20, 22, 24,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поддержку LPT-порта, необходимую для организации выв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й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начального тестир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T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 наличие парал­лельных портов по адресам ЗВСЬ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омещает базовые адреса обнаруженных портов в ячей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DATA AREA 0:0408h, 040Ah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СП, 040ЕП. Эти ячейки хранят адреса портов с логическими име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-LPT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ячейки 0:0478, 0479, 047А, 047В заносятся константы, задающие выдержку тайм-аута для этих пор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ор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ычно ведется по базовому адресу. Если считанный байт совпал с записанным, считается, что найден LPT-порт, и его адрес помещают в ячей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 DATA ARE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дрес по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4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остоятельно установить не может, поскольку в списке стандартных адресов поиска имеются только три вышеука­з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аруженные порты инициализирую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сью в регистр управления формируется и снимается 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ff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ле чего записывается значение 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ее исходному состоянию сигналов интерфей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D630-0BE2-43C9-AABD-4ED38ED141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2E08-C700-4870-ADEA-864B401869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преры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I NT 17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следующие функции поддержки LPT-по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вывод символа из регис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анные помещаются в выходной регистр и после готовности принтера формируется стр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ициализаия интерфейса и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h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з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h номер функции задается в регистре АН, номер порта — в регист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0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,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— LPT2...). При возврате после любой функции регистр АН содержит код состоя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иты регистра состоя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R[7:3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биты 6 и 3 инвертированы) и флаг тайм-аута в бите 0. Флаг тайм-аута устанавливается при неудачной попытке вывода симв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стандартного порта частично устраняют новые типы портов, поя­вившихся в компьютерах семейства PS/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направленный порт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l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терфейс, введенный с PS/2. Такой порт кроме стандартного режима может работать в режиме ввода или двунаправленном. Протокол обмена формируется программно, а для указания направления передачи в регистр управления порта введен специальный бит: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.5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фер данных работает на вывод, 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.5=1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с прямым доступом к памя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MA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менялся в PS/2 моделей 57, 90, 95. Этот тип был введен для повышения пропускной способности и разгрузки процессора при выводе на принтер. Программе, рабо­тающей с данным портом, требовалось только задать блок данных в памяти, подлежащих выводу, и вывод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зводился без участия процессор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05B8-FAF3-4CE7-8ECF-ECBC83FA42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физические характеристики приемников и передатчиков сигн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ередатчикам предъявляются следующи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без нагрузки не должны выходить за пределы -0,5... +5,5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при токе нагрузки 14 мА должны быть не ниже +2,4 В для высо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h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 выше +0,4 В для низ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стоянном 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ной импедан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меренный на разъеме, должен составлять 50(±)5 Ом на уров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h-vol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беспечения заданного импеданса в некоторых случаях используют последовательные резисторы в выходных цепях передатчика. Согласование импеданса передатчика и кабеля снижа­ет уровень импульсных по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нарастания (спада) импульса должна находиться в пределах 0,05-0,4 В/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4562-62B2-429D-BD2A-BBFF7096C6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ебования к приемника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опустимые пиковые значения сигналов -2,0...+7,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роги срабатывания должны быть не выше 2,0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h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высокого уровня и не ниже 0,8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l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низког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емник должен иметь гистерезис в пределах 0,2-1,2 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ой ток микросхемы  не должен превы­шать 20 м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ая емкость не должна превышать 50 пФ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определяет три типа используемых разъемов. Типы 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DB-25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 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Centronics-36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спользуются в традиционных кабелях подклю­чения принтера, тип С — новый малогабаритный 36-контактный разъ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терфейсные кабели, традиционно используемые для подключения принте­ров, обычно имеют от 18 до 25 проводников, в зависимости от числа провод­ников цеп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GND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регламентирует и свойства кабеле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е сигнальные линии должны быть перевитыми с отдельными обратны­ми (общими) провод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ждая пара должна иметь импеданс 62(±)6 Ом в частотном диапазоне 4-16 МГц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ровень перекрестных помех между парами не должен превышать 10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ь должен иметь экран (фольгу), покрывающий не менее 85% внеш­ней поверхности. На концах кабеля экран должен быть окольцован и со­единен с контактом разъе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и, удовлетворяющие этим требованиям, маркируются надписью IЕЕЕ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-199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Compliant»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ни могут иметь длину до 10 мет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D9BF-1FCE-4D56-8BA0-342AB44CD6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53:14Z</dcterms:modified>
  <cp:revision>94</cp:revision>
  <dc:subject/>
  <dc:title>Lecture Template </dc:title>
</cp:coreProperties>
</file>